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1ED3-E758-4582-BB71-B871B846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7924-410A-45B0-A325-5DEAF3CA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8BFC-B057-4D31-A7CB-FEA71795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01A3-016D-4DE0-B57B-A8B6AC8E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8C8D-6F2F-4735-A94D-17B51E81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14F7-19F8-4429-AA81-55DA4502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379-8692-4D8B-9912-67B633C7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D518-066A-4088-B726-B7B7179F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00B8-4EA2-4B20-87F7-F0A980DC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939A-EA55-49CA-B6C7-340D520C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7B68-DED1-4F1A-9F43-8E870337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1833-189E-4749-B508-17B878AB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5904A1-0161-429C-BAB0-B80F7EE79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22440"/>
            <a:ext cx="4343400" cy="433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65444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34468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OJEKT „837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RAVIAN SCIENCE CENTRE B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TICKÉ VÝPOČTY STŘECH PAVILONU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ROVĚŘENÍ NÁVRHU SKLADBY STŘECH NAVRHOVA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 ČÁSTI ARCHITEKTONICKO-STAVEBNÍHO REŠE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4920" y="903240"/>
            <a:ext cx="180972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86440" y="90252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5313240"/>
            <a:ext cx="4343400" cy="433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934560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703584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OJEKT „837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RAVIAN SCIENCE CENTRE B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TICKÉ VÝPOČTY STŘECH PAVILONU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ROVĚŘENÍ NÁVRHU SKLADBY STŘECH NAVRHOVA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 ČÁSTI ARCHITEKTONICKO-STAVEBNÍHO REŠE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74920" y="5594400"/>
            <a:ext cx="1809720" cy="904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86440" y="559368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4T12:09:04Z</dcterms:created>
  <dc:creator>Libuna</dc:creator>
  <dc:description/>
  <dc:language>en-US</dc:language>
  <cp:lastModifiedBy>Libor Švaříček</cp:lastModifiedBy>
  <cp:lastPrinted>2000-06-07T12:15:56Z</cp:lastPrinted>
  <dcterms:modified xsi:type="dcterms:W3CDTF">2011-04-21T10:35:58Z</dcterms:modified>
  <cp:revision>144</cp:revision>
  <dc:subject/>
  <dc:title>bez titulu</dc:title>
</cp:coreProperties>
</file>